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DF7-EB02-4E42-A224-42BD385C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11D3-7AF9-4B5F-B7DC-5F13B1BAC2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BF64-B811-486C-8DA7-8A0D01D0A2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EAD6-30E4-4BFD-A076-6D653560D7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130-598A-4EA2-B884-C680369B1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2E4-8930-41F2-9701-94AD7F434D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6B9-D223-4DE8-9799-AF0119B7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47B-9B33-4AEE-86D1-51D24CC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E8E-C345-491D-84FA-7C53F4AD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BA6-9FA3-4E71-A696-EEF35263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85B-918D-47EA-99BA-C72B1555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FB03-AF3D-4C49-85AB-32C8366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F484-EF07-492F-A820-342520D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C3B-98C4-4096-A8E9-D3325A6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0735-C502-43E4-BA4D-FA6A5757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AD9E-BFB3-48EC-885E-38AB67E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7DF-BAE1-4D0B-9109-9F1B1D7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01B-E2A1-4751-A32F-7A8C7597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CC0C-C3D5-4F96-8794-FE6AAD78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5354-8125-4C7C-AF41-BC9EAE7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310-EE8F-4C65-9284-1BC29DB5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FDED-CA06-4EF1-AA29-A3639A8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B777-207D-4828-B628-1EF24FE9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C66-C581-48A1-9F08-B674E46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925-0D9A-4CCD-BE6B-D41426DB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D7A-9E49-4210-893C-05541B8D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C55-A1E7-4473-BD4F-7B0ADBD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364-E007-4647-B633-71BD17DF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242-23E0-4D0A-AF63-A1A87E7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B2D-152C-4AD5-87E6-DAA36F74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7559-40C7-4E48-8833-2AADA026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F5F-1A96-403D-8DD0-D05B9CC72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xecutive Branc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created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54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Name the 3 qualifications to be Presid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is the MAXIMUM amount of years someone can serve as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819520" y="3403440"/>
            <a:ext cx="3136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position is third in line of succession for the Presidenc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154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is the leader of our Nation’s Armed forc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3759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0-21T12:06:23Z</dcterms:modified>
  <cp:revision>132</cp:revision>
  <dc:subject/>
  <dc:title>D/O: TO EXPLAIN AND IDENTIFY PROBLEMS OF ECONOMICS</dc:title>
</cp:coreProperties>
</file>